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AC88-05E0-4FAB-928F-7C4CCFCB6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Quer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wys w/ experimental evidence in yeastcyc: in database S. cerevisiae, search for Pathways where at least one element of CITATIONS contains the substring EV-EXP.  Columns for NAME and CI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CF63-A44F-46AA-BBD4-AA805DBED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iocyc.org/" TargetMode="External"/><Relationship Id="rId2" Type="http://schemas.openxmlformats.org/officeDocument/2006/relationships/hyperlink" Target="http://biocyc.org/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1676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Recent Developments in Pathway Tools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Stone Serif"/>
              </a:rPr>
              <a:t>GMOD Workshop November ‘07</a:t>
            </a:r>
            <a:endParaRPr b="1" i="1" lang="en-US" sz="36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19320" y="335232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Suzanne Paley</a:t>
            </a:r>
            <a:endParaRPr b="1" lang="en-US" sz="28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informatics Research Grou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RI Internationa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ley@ai.sri.c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Bi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coCyc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PathoLogic (avail. in v.12.0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vised annotations may contain 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w gen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gene properti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pdated functional descrip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s don’t want to rebuild PGDB, don’t want to lose manual curation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command reads revised annotation file, compares w/ existing PGDB, presents summary of chang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urator can: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pply a set of changes en masse (e.g. create all new genes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xamine each change in a group and decide individually which to apply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ave progress and return la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enerate report of changes to import into spreadsheet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Incremental Update Summary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955800"/>
            <a:ext cx="6858000" cy="5510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ssign Selected Reactions Dialog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599520" cy="7620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scoring Pathway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score Pathways after desired annotation changes have been mad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oftware remembers which pathways were inferred last tim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f a pathway has since been deleted, the software only considers it if there is now additional evidence for i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mmary lists: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deleted pathways now w/ more evidenc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eviously inferred pathways that should now be prun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Newly inferred pathway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athways not in MetaCyc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each list, curator can quickly check off pathways that should be delet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Regulati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0663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reviously, regulation represented idiosyncratically: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One representation for modulation of enzym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ompletely different representation for regulation of transcription initiation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ow unified under single Regulation class w/ sub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his enables us to easily add support for new kinds of regulation, e.g.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al attenuation (done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85080" indent="-2278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Regulation of translation by small RNAs (in progress)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New tools for display and editing of new Regulation classe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8001000" cy="98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8077320" cy="1257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Representation of Electron Transport Reac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lectron transport reactions now composite reactions composed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eft and right compounds inferred from constituent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irection of reaction inferred from standard reduction potential of half-reac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New display and editing tools to support new represent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4191120" cy="2046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24280" y="3608280"/>
            <a:ext cx="4114800" cy="2719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cknowledge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eter Karp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kus Krummena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rio Latendres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ato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on Caspi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grid Kese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ex Shear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rol Fulch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ifen Zhang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utational creation of new Pathway/Genome Databas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forms genome into Pathway Tools schema and layers inferred information above the genom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oper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metabolic network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edicts pathway hole filler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fers transport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58960" y="6095880"/>
            <a:ext cx="36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Bioinformatics 18:S225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Edito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Interactively update PGDBs with graphical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upport geographically distributed teams of curators with object database system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Gene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rotei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Reac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ompound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Oper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-21852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ublication edi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1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2156040" cy="2324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3429000" cy="252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143760" y="2743200"/>
            <a:ext cx="3000240" cy="23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: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Navigato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Querying, visualization of pathways, chromosomes, oper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nalysis oper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arative genomic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WWW publishing of PGDB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Desktop oper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42120" y="0"/>
            <a:ext cx="2801880" cy="2324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4496040" cy="3372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952880" y="2341440"/>
            <a:ext cx="2970360" cy="1876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 on the Web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 Tools can be used either  as a standalone curation/publishing platform or as a Pathways Module that lives side by side w/ existing DB using other GMOD application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BioCyc (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biocyc.org</a:t>
            </a: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): a collection of PGDBs for 370 organisms – these are available for adoption by groups that wish to curate them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523880" y="2514600"/>
            <a:ext cx="62485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vanced Query Form and BioVel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mics Viewer now shows data on 3 different overview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axonomic pruning reduces false positive pathway predi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cremental PathoLogic allows revised annotation to be imported into existing PGDB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vised schema for representing regulati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dded representation of electron transport reaction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Advanced Query Capabilities and BioVelo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query across organisms and datatyp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either use structured form or more powerful BioVelo query languag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tructured form translates query to BioVelo, so you can copy, paste, modify if desir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Taxonomic Pruning in PathoLogic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istorically, PathoLogic very conservative, prefers to infer more pathways and let curator strip out false prediction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rowing numbers of pathway variants in MetaCyc mean potentially many false positive pathway predi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etaCyc pathways now tagged w/ Taxonomic-Range attribut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ways will not be predicted for an organism outside its taxonomic-range unless it has enzymes identified for all or almost all its ste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ser can turn off taxonomic pruning if too many pathways being pruned ou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7:03:00Z</dcterms:created>
  <dc:creator>paley</dc:creator>
  <dc:description/>
  <dc:language>en-US</dc:language>
  <cp:lastModifiedBy>paley</cp:lastModifiedBy>
  <dcterms:modified xsi:type="dcterms:W3CDTF">2007-11-05T19:58:10Z</dcterms:modified>
  <cp:revision>6</cp:revision>
  <dc:subject/>
  <dc:title>Recent Developments in Pathway Tools  GMOD Workshop November ‘07</dc:title>
</cp:coreProperties>
</file>